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0E2-070C-433B-9C7C-0891C4B2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C3E-888D-445E-8BD4-B7C43EEA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7D4C1-DDDF-41E0-8FDE-A3E63475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46715-C69F-4003-9FBE-82BD9C49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01E02-2886-4DAA-93BD-5BADA9B2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EBFFE-2B62-4D11-8AD6-C1CD9916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45B33-F5FF-4583-B4A5-346A9F00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82568-01CA-43B5-8511-AE5FF45C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27AA6-32B1-4692-B38E-48C06C4A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E6B43-8882-4927-B793-B7D6AA6F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A7C0B-078D-4A80-A77A-B8954CEC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B3BD6-3743-4F3D-A0B8-752E941F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809-72F8-4DD4-9313-7416C312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6B7EF-591E-4889-955F-79FFB16E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F9FF3-19FE-42FE-9320-96A5C58A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0CD97-A626-464C-964D-8B86F533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1D19C-DE30-4126-9811-77EC8355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34C58-770F-4674-ABF1-8005BC2A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E2A6A-D604-467C-881D-CE9AE4C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D391A-EBF3-407D-8751-FAE406E6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C002C-3081-42E4-8939-023E47B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D4126-D900-459D-B8EF-89462AD3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F69B6-3D89-4004-B17D-4572B162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64B-BB9C-44F9-A521-56FAEC50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C8E46-331F-4468-A6BD-33F69FCE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20E41-73F0-4087-988E-84F41C3F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D9204-5BB4-40DF-87CC-6D3583E5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FD8F2-CE31-4FDD-8C1A-1E6D0235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2AD57-17E4-4AB6-9ADE-0565C29A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81410-F01E-4B66-90B2-622BE5DC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20C8E-46CF-463D-AED9-94258E0C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1CFD7-F688-4BFF-A106-77E8285A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59B0D-85C3-41B9-BE82-C5261370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E782C-80D3-437A-974A-554424A6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C7AD-C037-4FB7-852E-C1527522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EA45B-1DF2-4ABB-BF2A-58036EF1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A684A-BF31-4B3B-A14C-9A8CEDC0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A7B2C-8178-46C5-8AE8-1240A04D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68EFB-BBEA-420F-98B9-A2AA3EBF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9867A-DDDB-4D92-BC3C-D6452C88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5163A-8CC8-4B8A-A4FF-670D66B0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CC8FC-BE3B-4D70-AD74-E569A672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EC1E4-2930-44EA-B4A6-51CF3114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E63AA-90FE-43B6-A63A-54B2E1D3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5647E-706E-4C20-8BCD-D6E287B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1E51-C69B-4510-A06D-CC8476BA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E6C41-4D01-4212-AB39-6EB11893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9C98E-E201-425A-BB8F-206A11A9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6C9CA-3C48-4DCD-B5BE-33137D2D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C6D97-C49F-40E7-946F-5985A40B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A41FD-852B-4E55-86BA-A0404467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AA530-54AE-40D0-9853-47FA74F8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84843-CCE2-4246-850A-18D6124A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9491E-3FDD-4D10-9273-A2DDBAD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89D1D-C647-4000-ACA4-FBC31157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1AD43-C7DD-45D9-A6FD-5C5E9025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79B0-9D9A-4944-A46F-0D5A49A0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7E757-21C9-4CB0-AB59-37F3326B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FC963-E644-43FB-94D1-E7F3D614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A013F-8488-42F6-ACD1-53B4949C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6D79D-2B75-44C7-9802-F6004923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F5C78-474F-4ECE-8B90-D7142162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C092C-BE8C-4A3C-A9E6-B2332158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253B0-CB9F-4576-A295-1F25772D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E58BA-1CB1-411B-BEE2-494A8544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35B42-8373-4D30-8BD1-3AB1DBAE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074DB-A588-467D-8980-3A91AE6A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A971-A7F3-4E0B-B50F-FF9C1B86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AF0C3-4435-4372-9924-759A6EF9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35EBC-F994-499B-9AA3-08326833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1DDAC-7BA6-4BA6-AFBE-969BD7E0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035D5-2CB0-4A66-9CA3-16A6E84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53968-3A80-48BC-8EC9-FA6D90D7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7BF54-9DD4-42F8-A95D-665795CE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C00AD-C47A-46D6-A686-59A480DC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A5819-96E3-4426-A00E-098364BB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E5E0E-B555-4955-B665-D2912102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DDF24-744E-4EF4-986C-AFC10C64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2B5D-D92B-4B91-8E30-87501BAC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CF433-FC51-4C70-9236-742E0BEE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114D5-3976-49C4-9177-BF162468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55A9D-FFA7-46F4-BE71-DD31EBCF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D02F5-4D69-4487-9189-A778A909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FFCB9-EFA7-4C0E-8788-EE6939E7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1E322-F333-4FD3-BB5B-0CF6CD6E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26116-9EB5-42CA-8E50-7479BEE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C51E6-B871-4E42-901A-DD257E3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A0D8B-FF7D-44B4-87E8-4E20F2AA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893C17-C5A8-47CA-926C-09143FC4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CFD9-49B6-47F5-9566-ABDFFE5E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2DB03F-4C1F-42AE-A43E-F996FDEE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E577D-A145-4E70-B295-BE1150EE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F8837-25F5-41F6-BB96-C7600948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B557C-C229-4BCA-B140-D428BE19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CB4E0-F641-4DD3-92E2-D68C5BF1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2F263-FA40-4041-814C-53ACC558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032D0-BD54-4809-9693-AB5EEB34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CE25E-CC2B-4F53-8BEE-551A7D2D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D10CA-E2FC-473F-8CAC-806CC0BC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9F3A2-F4F4-48AD-9885-492FF3A2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3753-1DCF-4DF2-A71D-AE80A417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77CC72-4B9E-4BD7-B6EA-FD13BC1E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CE6AC-4C92-44AC-A9C0-ABF8531F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B7CD4-B76F-4122-B66E-87653D5C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D509C-2F15-4FD5-B6AF-E6125C23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8BDC0-ABDD-403F-951D-593651A7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D0A98-A018-4453-9A21-FA28C56E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CC83A-691A-403D-AF1E-14969B5F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5AA0D-4BBD-4629-8CC6-1B4283FB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2252AF-C903-4EE5-9E35-60E8D5FF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B490C-981F-4DA5-AD4A-FB74CD9D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DF0-018F-4FC2-B2A8-B13A3407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7C24-2629-42ED-83CF-A8D3C147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38FD8F-243D-48C9-9CF8-6EB64339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C9138-37E2-4361-90EC-0F5634AE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BF0C38-F4CC-4FA7-ABF7-4A6D0B22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3D369-31BC-4622-8049-5C34261F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B1A5C-A10C-4F69-B838-64F43570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534A5-8F00-424A-9204-3814D07D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CF7C54-4F93-4CA1-9665-9A2A956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0843F3-97A9-4AF0-93B3-6D068D76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5A2D7-BFD5-4CAD-B975-2C40607A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922B0-5D90-4ADA-926B-04267684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4497-30A3-42A0-A477-A4930EA3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6EEF4A-5B67-437B-B168-EDFD6011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3D2DA-01C7-4EBC-944D-B192A45E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383854-4744-470B-8AB6-C73CF8B9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7EAAD-EA93-4209-AB8C-058CEB0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10B4E-8CCC-4556-BB2C-A121D6CA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55BA0-E88D-4936-AE72-E71D9CDB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45E0D4-BD52-41E4-A132-DEC22ABE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580715-00E5-4176-8247-02199D77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ECD8B2-DAEE-4656-9A18-4EE36379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B34FDD-70D8-4496-A6DB-961F759B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7DBC-5DFF-4A54-819D-127290F0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D7803-186E-4945-BE11-5FA8B10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724B7-F344-46C3-AC4C-D3473918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18731-532A-4167-9F51-7F5861B0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A604C0-1189-4051-90CC-4A4DE6B2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4CBAA-516E-4FD3-AD1C-77DCA71A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0DD8C-702B-4743-8FD7-4013F9ED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04D5F0-0DF9-417A-8266-6E62AEBE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1B770-10F7-4F78-8F79-F9E58B6F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5CB168-3076-4F56-AABF-F766593C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3CFB7-12D4-4F27-A00A-2E8F3C9D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04E0-4D68-4414-8A9C-2B70D844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4AFEA1-00C1-4133-A748-8727A8A7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DF73C-84EC-4CE0-B176-504EAFA3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730AC-F3ED-47D2-9896-0C1351DC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4E575-EF5B-4EFC-9D80-3469CC31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8211D-88B8-49B5-ABE4-52194124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B5DF3-9365-4B24-9038-74213685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FC96ED-10D0-4045-96F9-EB48FB80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9CDFC-0633-4F47-9A8C-F658DEA5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D7B5B7-E16F-447C-A5CF-24D6FDEC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998D8-3D94-469B-929E-0D52674B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5A96-12B2-4438-B012-1E9D8559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CD7BD6-ABD7-46FB-9F63-88BF15E2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A1C319-30C9-4FFE-914A-95AD02CD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AF524-1DD3-4BF3-8CE5-E79D9754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A2095-8D9E-4CBB-B7E3-23120D7B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885A9-4A4B-4A95-8445-CCB71AFF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AF6CC-2B98-47ED-A127-746C7C26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F836C2-1C31-4EA2-993B-A14EBA48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23565-713C-45FF-A88C-C734335C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D522BC-DD25-4B57-A5F4-E14DB9F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03C412-E9DD-49D5-BC35-CBA2871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4B8C3-00DB-472E-9CA0-A81989FF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9E8CEE-5384-41F8-8E98-A2B1BE18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949A9D-6050-43B0-92A5-8456990E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C1146F-6FC7-41C2-8140-63A2185A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0563-7F00-4D9F-A9BC-39500068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6344E-8424-4633-9B8F-4A48CA85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3104-6D73-4A57-ADF1-5389FC76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8365-DF6F-49F8-994C-C7B65455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CCC-46D8-4199-AF53-E541AAF1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178F-A344-47F5-8F35-AD1AA0B9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784A-9274-4816-B22A-E752C8B6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5A27-260F-44F9-B942-5B958F6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03AE-C016-4777-BECE-593476F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1DDC3-195E-45A4-88CE-C2085CC3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545D1-1DB2-415A-89D2-A79B83D2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ECD7-F8AE-4BD5-B79E-57901330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F1E3-0223-4C3F-B427-D67B36A6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91BA9-670B-4506-8023-08C084EC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4022E-B062-4C13-BAF7-6DC73390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D0F-7833-4E35-9D43-7EFE732F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E0466-7E01-45BC-97A3-70B43BF1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4E7EA-217F-4BF5-94AA-EAA4901F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BCF43-A7BE-4265-984B-21C17C1C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3018B-F4D1-478B-AEB9-AC040011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A296-28B5-4E6B-AAE4-20FDB477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CEA56-607B-4876-B31D-5002555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2BDE-CC41-414C-8ADC-40624380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0575D-6CF3-486E-8E52-997FE77D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4547-9406-427B-BBAC-27B3FC20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446EB-E89E-48FB-AE87-94D61BF5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55E-FCE6-431C-8058-A95EC00A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BAC9A-1A13-4BF5-A881-954047DE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B8168-1529-4D14-BDB9-C25BB6F0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41534-3AD0-4149-8236-7C02B2CE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767F-23F4-46A1-8A12-A3ADB19A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73C03-0089-407A-BB4D-B4983243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3BA94-251D-4B02-905B-2F766DC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CB2D-E414-4454-AADF-829CD0E8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177CC-DCC3-4A06-BB3A-F0DF40F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4208D-B7B9-4425-90A0-EA2184E7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A1B32-8B15-42C3-99A0-C0F570DB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DF7-F441-485C-A118-5DC89F58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3ABE-BCCF-4D69-BBE1-193DADE5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6A191-33D3-4CB0-84C4-EAF1B1E2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FA0DE-6915-40BE-A584-95927FD7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79025-EA11-49E3-B338-84A2DB26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F2FA-47A5-46E4-BC60-E9CFDE95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6536E-8597-4A59-B0B3-000F283C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2D670-F2A2-4F18-9453-310C1518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763EF-924B-4BCA-AE15-E0A08DE0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DC21A-8C6F-4A3E-BC66-4624D116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03664-B913-4A78-B912-49A3CD2C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01E-DB34-40CF-B8E2-3EC8D24E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B7AB9-1D84-4AF0-A4FD-C3568F19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B56D7-3875-471F-B4C6-05880142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DF3C-657E-40D5-B9B6-324C58C2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E5B64-4B2E-460F-A9C5-344E1C0F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EC9B1-6526-40CC-8458-4D313D6D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7A6FC-4BD0-4C9D-83EB-D26BE5B6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0D0D0-6FA0-42DE-A779-B2254C52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A8203-DFC4-42D6-B772-7331CE02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60830-2CF2-449F-B2B6-2CD70079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BDEA-54F3-44AC-8A5A-994F22F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F61-6F61-4893-BC7C-C8E1ACE9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079FD-5AC9-49B8-B8F0-CE1D95E4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58B39-37BD-4E64-8C7C-AFE0ACFA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FE816-72BA-43F1-9577-B594C7ED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F4929-11CE-4C8C-BFC9-294709F6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9FE38-DE47-44F4-9A75-4061CB7D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DDB15-FCD6-45A5-B2E9-BC3DD81E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9AC81-E581-46A6-B33F-3A8F28F7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A5E67-223A-4BD9-9F5E-F12263B2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D56A8-3BCF-4CAB-8976-3BA95843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2D07E-CCBF-41D5-8AA2-D4848AB5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578-B801-44B0-9A6B-A71D1681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47444-0CB0-49C8-869C-7555F789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886F4-E62D-4C5D-BB30-F22357F4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412E5-B99A-4690-BF19-537DDDFA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B5363-6D56-48A5-9109-4EA2D39D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66CC3-8269-4F06-8F0E-C4F144C0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D8597-F745-4ED1-A344-0EC688CB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1E80B-B161-44EB-AA60-38E0FF05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7A27C-4E63-46F7-9597-863816D9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0B06F-2EAB-4DB7-BC91-292CC70D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E69A3-7DC9-456A-A9AF-C4D10996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6FC6-325D-462C-BB73-A17EEE2FF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4F97-4183-40FB-B766-F2762A20FA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306E-5D31-4613-9843-266050B01D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F85C-D9C5-4C2D-91F9-2658F210FE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EA9E-21FF-4A3C-B0EB-A00BA8EEA3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3384-6DAC-48D3-A7D8-E80285B3AF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509D-63F1-41AC-AF19-F4DF9190DB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FAEF-9CC8-49DF-A2D2-3E02C61D5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F782-B7F4-46CE-8036-87A62387B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D2E6-B535-491E-957C-5D70742462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FD4B-1E61-4D78-A880-EE9C34728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2554-ECAC-44F8-A650-EF0B1A9AB8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FE4D-0E2D-463A-AB87-E009929183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0E16-6627-415E-946A-31A852FFF1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963E-10F7-40C8-B793-A84DC5C96E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BD33-1B21-42F7-9F9F-C6FC904307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9E93-EA47-46D1-B5B2-F5A5550622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E858-0BDB-442F-8CEE-1583095A2E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2A88-FE19-4BA5-825D-6FDD08477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4DC8-BC9F-410B-B2D2-F2E14B6889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A759-BF02-4172-B0BB-F2A51CDF08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BCA9-9FAC-4651-A7B5-1FE4A259CD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2E0C-900E-4212-BF69-F574281AC4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3D16-2F37-471E-A706-8D6BF69C71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C585-7AA2-4536-9899-4CF9880280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EF1-7AEA-40EA-8993-F4B3C27D3A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D595-3712-4B8C-B8AE-942C168E9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DE2B-02C4-4AF5-973D-FDD8FC471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C997-DE08-4DE0-8911-847A88FEB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80DE-39F4-4231-B57A-0BB0D74198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7F1B-A43A-4A11-957B-7C8BC708D4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FFD8-E3F5-4865-996C-B816CF36C8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8740-0BCF-4D06-9A9F-6A15A02075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D192-AC5A-49D0-82AD-D3F43777DC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EAB0-FBA8-4706-A562-D73807353F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5E25-DE3D-4BAB-B190-7C8C90E5A5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D005-E3C1-453B-8EA9-EC5DCAA31E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1825-F314-4DCD-B865-4DB7011C50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4B2F-2B5C-4C5D-AA67-CEA4EC36F1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2BE5-6C68-4B9C-BB04-585F5A5E88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330200" y="3257640"/>
            <a:ext cx="52419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133200" y="928800"/>
            <a:ext cx="8877600" cy="5524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2428920" y="192888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2421000" y="234000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2428920" y="275904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6437160" y="1928880"/>
            <a:ext cx="303480" cy="276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6429240" y="234000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6437160" y="2759040"/>
            <a:ext cx="303480" cy="2761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2135160" y="3927600"/>
            <a:ext cx="241200" cy="287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2768760" y="392760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3429000" y="392760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4070520" y="3927600"/>
            <a:ext cx="241200" cy="287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4724280" y="3917880"/>
            <a:ext cx="241560" cy="2890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2000160" y="54291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2928960" y="54291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3786120" y="54291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16"/>
          <a:stretch/>
        </p:blipFill>
        <p:spPr>
          <a:xfrm>
            <a:off x="4714920" y="550080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17"/>
          <a:stretch/>
        </p:blipFill>
        <p:spPr>
          <a:xfrm>
            <a:off x="1749600" y="6097680"/>
            <a:ext cx="2412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1" descr=""/>
          <p:cNvPicPr/>
          <p:nvPr/>
        </p:nvPicPr>
        <p:blipFill>
          <a:blip r:embed="rId1"/>
          <a:srcRect l="0" t="1153" r="0" b="0"/>
          <a:stretch/>
        </p:blipFill>
        <p:spPr>
          <a:xfrm>
            <a:off x="109440" y="692280"/>
            <a:ext cx="8925120" cy="4198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2" descr=""/>
          <p:cNvPicPr/>
          <p:nvPr/>
        </p:nvPicPr>
        <p:blipFill>
          <a:blip r:embed="rId2"/>
          <a:stretch/>
        </p:blipFill>
        <p:spPr>
          <a:xfrm>
            <a:off x="142920" y="4838760"/>
            <a:ext cx="7324560" cy="20192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" descr=""/>
          <p:cNvPicPr/>
          <p:nvPr/>
        </p:nvPicPr>
        <p:blipFill>
          <a:blip r:embed="rId3"/>
          <a:stretch/>
        </p:blipFill>
        <p:spPr>
          <a:xfrm>
            <a:off x="7500960" y="3286080"/>
            <a:ext cx="1643040" cy="15717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4"/>
          <a:stretch/>
        </p:blipFill>
        <p:spPr>
          <a:xfrm>
            <a:off x="500040" y="1857240"/>
            <a:ext cx="2357640" cy="324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5"/>
          <a:stretch/>
        </p:blipFill>
        <p:spPr>
          <a:xfrm>
            <a:off x="500040" y="3749760"/>
            <a:ext cx="2357640" cy="3236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6"/>
          <a:stretch/>
        </p:blipFill>
        <p:spPr>
          <a:xfrm>
            <a:off x="500040" y="6534000"/>
            <a:ext cx="23576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1" descr=""/>
          <p:cNvPicPr/>
          <p:nvPr/>
        </p:nvPicPr>
        <p:blipFill>
          <a:blip r:embed="rId1"/>
          <a:stretch/>
        </p:blipFill>
        <p:spPr>
          <a:xfrm>
            <a:off x="3848040" y="2033640"/>
            <a:ext cx="1447920" cy="4181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2"/>
          <a:stretch/>
        </p:blipFill>
        <p:spPr>
          <a:xfrm>
            <a:off x="4803840" y="285768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3"/>
          <a:stretch/>
        </p:blipFill>
        <p:spPr>
          <a:xfrm>
            <a:off x="4786200" y="32479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4"/>
          <a:stretch/>
        </p:blipFill>
        <p:spPr>
          <a:xfrm>
            <a:off x="4778280" y="36590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5"/>
          <a:stretch/>
        </p:blipFill>
        <p:spPr>
          <a:xfrm>
            <a:off x="4778280" y="40878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6"/>
          <a:stretch/>
        </p:blipFill>
        <p:spPr>
          <a:xfrm>
            <a:off x="4776840" y="44989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"/>
          <p:cNvPicPr/>
          <p:nvPr/>
        </p:nvPicPr>
        <p:blipFill>
          <a:blip r:embed="rId7"/>
          <a:stretch/>
        </p:blipFill>
        <p:spPr>
          <a:xfrm>
            <a:off x="4776840" y="492768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8"/>
          <a:stretch/>
        </p:blipFill>
        <p:spPr>
          <a:xfrm>
            <a:off x="4776840" y="53020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9"/>
          <a:stretch/>
        </p:blipFill>
        <p:spPr>
          <a:xfrm>
            <a:off x="4906800" y="5730840"/>
            <a:ext cx="3794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20:59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